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E28-DA23-4270-A728-8725D5CD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A20-A5C8-4B93-82A3-AED8A0DA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825-6C8F-4943-8C2C-898F25DA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B9B-B76D-4506-8888-3F9A5E95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837-A5C8-4BF1-9FE2-E0017860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D0E-B85D-45B5-8D26-2DCB9066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686-1256-4924-B938-D81376B9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DFF-A338-4F2D-A9E6-1E3C9C42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AD0-C415-44BF-92B5-3F863795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6D5-821F-4487-8AF4-54E0023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DDB-333D-42A4-8F07-8612472F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771-F14E-4B7E-B2FD-79B516DB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C4FE-1927-436A-A218-C5E21D8E8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ult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06520"/>
            <a:ext cx="9144000" cy="405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ligence and 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hood’s Ages and S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hood’s Commi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Being Across the Life S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th and D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68360" y="712800"/>
            <a:ext cx="6400800" cy="5435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-forties Midlife Cri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5480" y="839880"/>
            <a:ext cx="8026560" cy="518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and Life Satisf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Changes in Middle Adult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Changes in Late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y 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entia and Alzheimer’s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63760"/>
            <a:ext cx="9144000" cy="39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ging S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434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and Fatal Acci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51120" y="763560"/>
            <a:ext cx="5435640" cy="533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idents of Dementia by 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gnitive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ing and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ing and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: Cross-Sectional Evidence for Intellectual Dec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I: Longitudinal Evidence for Intellectual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II: It All Dep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69880" y="712800"/>
            <a:ext cx="6197760" cy="543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s of Re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3280" y="712800"/>
            <a:ext cx="5791320" cy="543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ll and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74800" y="888840"/>
            <a:ext cx="5587920" cy="5435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sectional vs. Longitudinal Testing of Intelligence at Various 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n Modules, Modul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8:00:33Z</dcterms:created>
  <dc:creator>bfw</dc:creator>
  <dc:description/>
  <dc:language>en-US</dc:language>
  <cp:lastModifiedBy>BFW</cp:lastModifiedBy>
  <dcterms:modified xsi:type="dcterms:W3CDTF">2003-03-12T20:28:45Z</dcterms:modified>
  <cp:revision>4</cp:revision>
  <dc:subject/>
  <dc:title>Module 10 Adulthood</dc:title>
</cp:coreProperties>
</file>